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221325"/>
        <c:axId val="76368707"/>
      </c:barChart>
      <c:catAx>
        <c:axId val="962213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368707"/>
        <c:crosses val="autoZero"/>
        <c:auto val="1"/>
        <c:lblAlgn val="ctr"/>
        <c:lblOffset val="100"/>
        <c:noMultiLvlLbl val="0"/>
      </c:catAx>
      <c:valAx>
        <c:axId val="763687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213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D2ED-FC4F-4CB3-A351-76963586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1E48-3EE0-45B9-9657-A92F2D8E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8C64-A2D8-4873-95C9-DA7D78376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F2F9-57B3-4636-854B-53D185664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D18D-A6AC-48A8-ADAF-22EE0FFC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936F-DD65-4226-A204-C4BA4AC3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D451-3679-421B-85FA-5CE4FCE2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14FA-4DBE-480D-A78A-A104F09D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63C3-5E0F-4202-A123-EA29B8BE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2BC8-FCB2-4DA2-B553-75E952FA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F1B1-1859-4317-B56E-86230764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1494-5096-4D18-8CD0-E2863A58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032FA-E2FB-442A-984B-D497DCE8BE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