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6552872"/>
        <c:axId val="80042801"/>
      </c:barChart>
      <c:catAx>
        <c:axId val="2655287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042801"/>
        <c:crosses val="autoZero"/>
        <c:auto val="1"/>
        <c:lblAlgn val="ctr"/>
        <c:lblOffset val="100"/>
        <c:noMultiLvlLbl val="0"/>
      </c:catAx>
      <c:valAx>
        <c:axId val="8004280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55287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68EAD-1C54-4521-9FC2-880907584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3ED4D-08B6-4BB7-96DB-509F57E86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460C8-3291-49FA-A451-71D14D748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05BDD-C291-4FCE-92A2-AE9833C23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ED8C1-46CD-484E-A1A7-49A280739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35182-5356-4813-B671-1FBA965FA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17CFD-5553-4583-B9D8-8A3F8CB3F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90CDC-305D-433A-9D40-22D635263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8D26B-B289-4AE0-8F75-0BD74D2E1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EA409-6B27-4376-998E-E94B57990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3C966-6586-43FD-8A24-2103792C6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B3CFD-B192-4774-B4D4-91062BAF2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C6EC25-9BA0-4734-B95E-B5A96942AAC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