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35103"/>
        <c:axId val="35842252"/>
      </c:barChart>
      <c:catAx>
        <c:axId val="18535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42252"/>
        <c:crosses val="autoZero"/>
        <c:auto val="1"/>
        <c:lblAlgn val="ctr"/>
        <c:lblOffset val="100"/>
        <c:noMultiLvlLbl val="0"/>
      </c:catAx>
      <c:valAx>
        <c:axId val="35842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35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57AD-CEA3-4136-BFC8-FF3BF0F6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E8E-3129-45B6-BE4F-347A9B41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9B0-E8A5-49FF-AE63-68759AF3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BD6D-4353-49F0-BC12-E4F59C52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4BB-AF50-4B00-93DF-3FD4AA42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7FA-63F2-416F-BDEA-3676AC86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E97-D82D-4AA2-B8D5-B7E7936D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F1E7-8766-4B69-8886-32604179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825-3419-41A5-82ED-76387827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D81-0555-4217-AA94-08C31D08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C05-CA42-4A2E-8385-018612E4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4D5-E2EA-4795-AF13-14CECAC8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2A207-C73B-44F0-9FCE-02657D23B2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