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46384"/>
        <c:axId val="65636317"/>
      </c:barChart>
      <c:catAx>
        <c:axId val="20246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36317"/>
        <c:crosses val="autoZero"/>
        <c:auto val="1"/>
        <c:lblAlgn val="ctr"/>
        <c:lblOffset val="100"/>
        <c:noMultiLvlLbl val="0"/>
      </c:catAx>
      <c:valAx>
        <c:axId val="65636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46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C4C-F6F9-4A33-88F7-6EF69CE7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7C2-4C3E-47E9-B8E5-72647F8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38F-D054-4CD5-BFAB-8747F5F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C8A-9906-49CD-AF16-99BCF919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100-A1E1-452E-837E-C1653CD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3D5-CA43-4012-9648-808A818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69B-8244-4122-9BB9-11C395FC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B53-F5F4-4225-AEDD-DF334EEA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533-9B9E-4A29-BFB2-F897529A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485-DB6A-440E-BFE4-BF569C6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316-4546-4517-B10A-E7CF13AD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A38-E3C8-432C-9507-0BB49B9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285DD-646F-4C2C-8F5B-27ED878415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