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61851"/>
        <c:axId val="5673845"/>
      </c:barChart>
      <c:catAx>
        <c:axId val="40461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3845"/>
        <c:crosses val="autoZero"/>
        <c:auto val="1"/>
        <c:lblAlgn val="ctr"/>
        <c:lblOffset val="100"/>
        <c:noMultiLvlLbl val="0"/>
      </c:catAx>
      <c:valAx>
        <c:axId val="5673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61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E59-5BC6-4FCC-94CA-CBBDFD25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87D-63B8-45FB-8E61-67587EE7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805-A2DA-4420-8410-DD94E1C1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152-D10C-4D1B-8DC7-F8FA0936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5D1-5DFD-41F0-A40C-321126C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CD8-DC4D-4A75-BC70-1622E09D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0B7-8A11-43C1-9A71-0C89C033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BA1-3C8E-4853-A5A9-477598E2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D13-6DBC-48A5-8F7C-28EA8B80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9D0-4DE3-4A66-8602-9FF6F175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F97-36D2-4DB7-8BE3-4A85C597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B4A-9990-4BC5-B6FD-9069E12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AA23C-30F0-4907-A5C1-60BFB6A0C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