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1728"/>
        <c:axId val="78232080"/>
      </c:barChart>
      <c:catAx>
        <c:axId val="2781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32080"/>
        <c:crosses val="autoZero"/>
        <c:auto val="1"/>
        <c:lblAlgn val="ctr"/>
        <c:lblOffset val="100"/>
        <c:noMultiLvlLbl val="0"/>
      </c:catAx>
      <c:valAx>
        <c:axId val="78232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1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0EF-F575-499A-A7C5-1C0832C0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4CA-F9E1-44A3-86D8-C94EBB63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12E-968E-4DDE-A486-B8774FDB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756-3353-48EF-99E0-DD4156DA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9E3-3EEB-483A-A05E-220B33F7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7B5-A498-4E03-8A57-B6442A3A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538-9BB1-4CD3-A6A0-49F8F0FE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1B4-54B0-45C3-BE51-985CC73D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840-534F-4323-9DDB-F23AC9DF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C7F-8B92-464C-BB6D-3CA62E35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F13-B134-4604-9FFD-42D1B189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1C3-497A-412E-A68E-EC42549B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8A03A-8200-4966-9730-192EDC63CC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