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681789"/>
        <c:axId val="82191098"/>
      </c:barChart>
      <c:catAx>
        <c:axId val="436817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191098"/>
        <c:crosses val="autoZero"/>
        <c:auto val="1"/>
        <c:lblAlgn val="ctr"/>
        <c:lblOffset val="100"/>
        <c:noMultiLvlLbl val="0"/>
      </c:catAx>
      <c:valAx>
        <c:axId val="821910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6817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DDF3-8892-4802-ADC0-551A7ACA8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31F5-7E87-450C-AD56-E4F086B5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1F8E-6A46-4A48-9A2C-AE65E30CD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E9E1-79B7-43CE-A664-71FFE3A70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7EA8-C638-41FE-99C3-AABDE575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512C-F165-4C3B-935B-03FBC162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B1BA-35E5-445A-9FB2-7A3A87AB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91F0-A262-4408-9AAC-98341734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633C-C7B9-4D58-B313-8AAECDC8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37BD-24F6-4B0D-AC82-03FB1D01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78D5-6549-4027-8DB6-3CDEC37E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4995-0F15-418B-AB7F-6380C4A5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66EE8E-8147-4C70-BBAA-975D5ED326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