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8857"/>
        <c:axId val="10853090"/>
      </c:barChart>
      <c:catAx>
        <c:axId val="1255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53090"/>
        <c:crosses val="autoZero"/>
        <c:auto val="1"/>
        <c:lblAlgn val="ctr"/>
        <c:lblOffset val="100"/>
        <c:noMultiLvlLbl val="0"/>
      </c:catAx>
      <c:valAx>
        <c:axId val="10853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C11-7EAC-4492-B5F3-DFAA7329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5C7-6CDC-47D8-99A8-0807D54A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147-94DE-4BCE-8373-5C07EC87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E19-981F-4710-9452-CCD02A8A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333-5EDA-493D-B1EF-F87D4AFF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75B-D3AF-43C1-B603-8BDC8711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834-48F9-49B3-A249-F25693E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522-C8D1-4A95-906B-551C0C01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093-3BA9-49FA-8673-8CC7B4D1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ECF-F43A-4D23-A8D5-34C0E5C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7A4-42BE-4B0E-AA45-09C7203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029-01D9-4360-A21A-E6B73C0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B26FC-974B-465D-9262-263DB1889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