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529985"/>
        <c:axId val="71574254"/>
      </c:barChart>
      <c:catAx>
        <c:axId val="755299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74254"/>
        <c:crosses val="autoZero"/>
        <c:auto val="1"/>
        <c:lblAlgn val="ctr"/>
        <c:lblOffset val="100"/>
        <c:noMultiLvlLbl val="0"/>
      </c:catAx>
      <c:valAx>
        <c:axId val="715742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299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ECD4-0871-4BAC-847A-93A224F0A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CF93-1550-41E7-891F-4EACC182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BDE9-E14E-439D-A541-614184786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4126-B893-459E-B06A-BC416FFD4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0374-A4A2-4443-8DA2-E5F620EE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B4A7-637C-4721-98C4-D8806719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0A50-4475-4A95-9876-BFCE1F0C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EFB0-185E-4C81-8EA3-A424AB41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31F7-05BC-494A-A485-31C616EA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26E5-4146-42D8-A547-EDBD95B0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DE89-C642-46B0-80C1-8C119877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7021-3A76-4766-8102-0CF2B2D5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2C961-0A64-45F6-8095-441E7AEBA7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