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52633"/>
        <c:axId val="3801758"/>
      </c:barChart>
      <c:catAx>
        <c:axId val="34652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1758"/>
        <c:crosses val="autoZero"/>
        <c:auto val="1"/>
        <c:lblAlgn val="ctr"/>
        <c:lblOffset val="100"/>
        <c:noMultiLvlLbl val="0"/>
      </c:catAx>
      <c:valAx>
        <c:axId val="3801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52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708-F672-437D-9EF5-1778BABE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B17-D3EC-4F2A-822F-7E723EAB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247-6E2B-4E7D-B912-A1E10272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4A4-63A7-42FF-93E1-C7B01E36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31A-1A91-433A-9E7B-4DBC8A19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638-6BE2-4A9F-B51D-04785BFB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153-082E-420C-BF4C-92D4CD4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F43-1FE1-4F10-A709-D82EDAC9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D48-929D-4F4A-9704-079383DF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7DA-DB54-41BF-B7AB-63843A6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9FE-A293-48DA-A7A0-5DED4DD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5AF-D90F-422A-BFA2-EDF133FA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BD89A-89BA-414A-993F-CF31341936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