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260777"/>
        <c:axId val="85104974"/>
      </c:barChart>
      <c:catAx>
        <c:axId val="252607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04974"/>
        <c:crosses val="autoZero"/>
        <c:auto val="1"/>
        <c:lblAlgn val="ctr"/>
        <c:lblOffset val="100"/>
        <c:noMultiLvlLbl val="0"/>
      </c:catAx>
      <c:valAx>
        <c:axId val="851049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607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B45C-83F7-4713-ABE7-F6440907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7E9-1E97-409C-A0C1-E84D427F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458-A103-443E-A61F-76AA08A58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ADF-42E0-4C55-9936-4A0B7EBC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4A71-1A61-469B-B16C-6CD170B7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1433-198C-4591-82A2-3DF928D2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D50C-B5A2-4A46-8F05-555619D9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F955-8FEA-4D59-AA5E-268307CF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8C1F-EB1B-4A25-A61C-B199FB94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60A0-6E1E-4CE7-8562-8271E77B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6758-1878-4666-9589-02E1FF6C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C1F5-ADBD-4B54-9290-9B158D81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2F1EB-8795-4939-A959-168402C227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