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28392"/>
        <c:axId val="74500585"/>
      </c:barChart>
      <c:catAx>
        <c:axId val="78128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00585"/>
        <c:crosses val="autoZero"/>
        <c:auto val="1"/>
        <c:lblAlgn val="ctr"/>
        <c:lblOffset val="100"/>
        <c:noMultiLvlLbl val="0"/>
      </c:catAx>
      <c:valAx>
        <c:axId val="74500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28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87F-9CED-4822-94BA-3640CD65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109-B63B-445B-8430-74BEB418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C31-4FEF-4994-8CAF-04532AF4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A3D-67D3-4D71-BEF9-200A1CFE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8B6-7B3C-4CBF-958F-E5D3740E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069-DCB2-4AFE-9609-7C25C18F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DCA-5C7D-4DA4-B3FB-B7F0FF0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DF8-F385-4E8B-AC7F-DC4EEA94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7D4-2B94-4402-B85B-7A15A40F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685-4A1D-42E7-80F5-30EE6CCE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2FB-2E14-4221-99CD-7C96C34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E77-135B-411D-9F85-71D2453D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959E7-5D8C-4740-8C6F-EA118A5EED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