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948468"/>
        <c:axId val="93182434"/>
      </c:barChart>
      <c:catAx>
        <c:axId val="849484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82434"/>
        <c:crosses val="autoZero"/>
        <c:auto val="1"/>
        <c:lblAlgn val="ctr"/>
        <c:lblOffset val="100"/>
        <c:noMultiLvlLbl val="0"/>
      </c:catAx>
      <c:valAx>
        <c:axId val="931824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484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F37B-AF4F-42F3-88F0-44F73505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FEC6-C331-431F-A010-7F07B8AC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C718-1B90-4244-85E0-238B9B4FC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6647-8712-41D7-81A7-6F7E09550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0BF8-E774-4682-BBD9-5EDAD404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5418-33A6-485E-86E8-7570E742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EC03-CE42-4BE0-BD69-55C55035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BB95-AE43-4CCB-92F6-46EE530F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7C6D-0ED9-4538-B037-2065F62B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5099-0A12-49AC-B221-E519CDCD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EB76-DCE2-4B49-A7E2-7BE29E15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C7C1-95E9-4DF0-A347-13FFFCE9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21768-26E8-4EFB-8340-541A01AF21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