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77830"/>
        <c:axId val="76842784"/>
      </c:barChart>
      <c:catAx>
        <c:axId val="728778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42784"/>
        <c:crosses val="autoZero"/>
        <c:auto val="1"/>
        <c:lblAlgn val="ctr"/>
        <c:lblOffset val="100"/>
        <c:noMultiLvlLbl val="0"/>
      </c:catAx>
      <c:valAx>
        <c:axId val="76842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778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642-F194-49EA-A498-6EF3AD41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7F9-28E8-444C-91C5-26CDE710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C19-D0D9-4634-95A3-CAC69FEFF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D5E-FDE7-4374-A9C4-7A7FBC3B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F34-D6B6-4A1F-9D0E-15110F89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2B5-939F-4437-821E-1B5649EF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B4BC-3708-408C-9C19-2F9F318C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1CF-46AA-4B61-87AE-B7F7CD39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42C-3D47-4739-BB95-1EEA854D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89D-D9F2-4C65-82AF-9F41FD00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0BEE-65C1-443E-905D-690E7F86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716-391B-4DBE-A7AB-B3BA021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D1CB8-CF55-4CBA-A4B8-3BAC0B1579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