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636386"/>
        <c:axId val="64803733"/>
      </c:barChart>
      <c:catAx>
        <c:axId val="746363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03733"/>
        <c:crosses val="autoZero"/>
        <c:auto val="1"/>
        <c:lblAlgn val="ctr"/>
        <c:lblOffset val="100"/>
        <c:noMultiLvlLbl val="0"/>
      </c:catAx>
      <c:valAx>
        <c:axId val="648037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6363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71E9-BD6F-4304-BEA8-9052B7598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29A1-4386-4956-96A4-161B987A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F97-D88A-4621-A3F4-54AD80910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FC47-71A9-4031-B109-D7F004FC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D98B-BB7F-4670-8306-1FBA757D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480C-EF88-4361-8D07-C4990102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5B3-F825-4BF1-BC90-037753EB2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A61-60CE-40E6-9256-356BB5BF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DE6-A956-4A7C-9BA5-ACEA4387B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F333-BF2A-4F45-B54A-37631EA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C79-A0C9-48EE-9E6F-BD85B8FD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9F12-E24D-4148-8862-F1F3A97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7C45C-AAE9-4569-A2C4-B024FE70DF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