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29981"/>
        <c:axId val="74847539"/>
      </c:barChart>
      <c:catAx>
        <c:axId val="26529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47539"/>
        <c:crosses val="autoZero"/>
        <c:auto val="1"/>
        <c:lblAlgn val="ctr"/>
        <c:lblOffset val="100"/>
        <c:noMultiLvlLbl val="0"/>
      </c:catAx>
      <c:valAx>
        <c:axId val="748475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29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BE6-5683-4EF0-8C47-FCABEDAC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90D-F928-4AE1-A40B-1F216A8B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8A0-E862-45C2-853D-5A4842E7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CA9-3EA0-48EF-9985-E3E4DD7C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AD1-6013-454F-8233-1CDF9CF7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494-FF2E-4AD5-9F59-27346786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157-C048-403F-949D-AAE1A700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AFF-801B-403D-8BC0-E0504BBB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C37-4E45-4A28-A2DF-B02747B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57D8-5342-41D0-98D6-93F7CC8E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511-07BC-4CD5-80F5-92D8476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EA0-378D-4E92-AEA7-3C0259C6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08C70-4D5A-44AF-9396-80BA196E7A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