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2536198"/>
        <c:axId val="873651"/>
      </c:barChart>
      <c:catAx>
        <c:axId val="2253619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3651"/>
        <c:crosses val="autoZero"/>
        <c:auto val="1"/>
        <c:lblAlgn val="ctr"/>
        <c:lblOffset val="100"/>
        <c:noMultiLvlLbl val="0"/>
      </c:catAx>
      <c:valAx>
        <c:axId val="87365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53619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DA87-6A4F-4299-9DD5-65BE0E294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875B-E543-410A-8490-C774ACC88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2AF8-378D-4ACA-B8FA-E886D0374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295E-E26B-4448-B8C5-193F532C6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2F53-F511-4C80-A95C-EDD113A44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8F5C-E5F7-45B6-8742-967A3D2D6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2A3B-5054-4365-B55C-3C83C5E61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7AB4-A443-4FF2-8EE7-BE6A3E707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5DA2-48F3-41B7-B91D-FD864C1AD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3068-B813-435D-A129-E9C9A322A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DBC8-78C5-4801-AED8-4C37622B3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0FB1-DBD3-42E9-B4CB-5E28F3446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31C9E9-7FF6-4FE6-82B0-570729AF949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