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307051"/>
        <c:axId val="94227960"/>
      </c:barChart>
      <c:catAx>
        <c:axId val="693070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227960"/>
        <c:crosses val="autoZero"/>
        <c:auto val="1"/>
        <c:lblAlgn val="ctr"/>
        <c:lblOffset val="100"/>
        <c:noMultiLvlLbl val="0"/>
      </c:catAx>
      <c:valAx>
        <c:axId val="942279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3070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899A-1783-47D7-9B8C-F18EE715F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9EC5-FACC-4B3D-AF4E-00A55C494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718E-F453-477C-B844-86CF035F6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158E-A402-4E65-AE52-2728DB4C8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C423-152E-410D-A091-8B359B307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0760-6265-44D3-9516-DAB657CAC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5BE1-B312-4242-AF33-D3E8BA452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F9AB-FE70-4A08-BB32-39D7D56D3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ED18-CBD2-4CC6-AAD8-FF7EFEC82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E54A-999D-4A42-B35F-21BC87241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01A8-C3E8-4B7A-88A4-C017EAE9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CE6A-E7FD-4047-B206-CD4FE6BC7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71BE81-D676-40B2-B641-0F317A0F215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