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03357"/>
        <c:axId val="51901366"/>
      </c:barChart>
      <c:catAx>
        <c:axId val="29003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01366"/>
        <c:crosses val="autoZero"/>
        <c:auto val="1"/>
        <c:lblAlgn val="ctr"/>
        <c:lblOffset val="100"/>
        <c:noMultiLvlLbl val="0"/>
      </c:catAx>
      <c:valAx>
        <c:axId val="51901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03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493-899A-455A-BB5E-C15C91FC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F33-4F22-43A7-9B00-468D65C1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4CE-5CAA-46BE-A358-A9711BF1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967-EAC1-43B5-B031-DB9F158D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4B8-1D4A-41E3-8B9B-2A774B1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6C45-380A-44F9-A8C0-2B37A1CA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CC0-D211-468F-812D-AE7225CA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240-6614-4A0E-BD72-C6C715F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DF5-DCE1-4044-B1A8-1BAA0141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D6A-8CF5-4DC5-84EE-AC9C8948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129E-2E51-425A-9F50-778B85A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5131-09DB-4195-B1FE-1017520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C85A6-807F-4C35-859B-554EAD3E4B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