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94989"/>
        <c:axId val="95565357"/>
      </c:barChart>
      <c:catAx>
        <c:axId val="65094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65357"/>
        <c:crosses val="autoZero"/>
        <c:auto val="1"/>
        <c:lblAlgn val="ctr"/>
        <c:lblOffset val="100"/>
        <c:noMultiLvlLbl val="0"/>
      </c:catAx>
      <c:valAx>
        <c:axId val="95565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94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9FD-56A9-4082-BFE0-3DDE3763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B7D-A175-4094-8A93-ED6FAEC6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BB9-9EDC-4B35-8AA7-7B3986AF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D3D-3B4A-4637-92C1-88D7EB7E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FF8D-FB14-4005-9CE4-31303327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D91-D2E1-44E4-8B43-8DF1D671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BFE-7D59-49BC-B3D7-73C5191E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0CE-7C40-4531-AE71-0A55DD61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A512-705F-4CB2-A158-56EA5E3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F89-5472-4444-BEE4-519319FF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FF9-5C38-4D23-8CD2-903AC1F0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F64-E1A5-45B5-A913-11A03C27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34D06-A652-49F4-B562-27DA24A34A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