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48980"/>
        <c:axId val="33284304"/>
      </c:barChart>
      <c:catAx>
        <c:axId val="29848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284304"/>
        <c:crosses val="autoZero"/>
        <c:auto val="1"/>
        <c:lblAlgn val="ctr"/>
        <c:lblOffset val="100"/>
        <c:noMultiLvlLbl val="0"/>
      </c:catAx>
      <c:valAx>
        <c:axId val="332843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48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755-2D17-4DB2-BE74-60F2EAA7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F063-3C93-4C6E-814E-17053C31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EA3-F7F4-40A6-8D79-EFB06725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71A5-77A1-4AD9-AD82-513B5E87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250B-8D4E-4200-9876-1B5D5A79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8560-B46A-421F-B579-3CE8A48C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1E7-6256-4FE5-BABA-46DA6834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C54-56BD-4064-9D6E-2D6542C0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617-8773-4748-8811-ABE0EA38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C4E-6458-42F6-84C6-895AE63A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92BA-6072-4B86-BFDA-6E3766C8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99E-A2EF-4AB6-BE35-BCD6E49E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0BD4B-9889-4EAF-881D-8081E2246B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