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63250"/>
        <c:axId val="87383267"/>
      </c:barChart>
      <c:catAx>
        <c:axId val="471632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83267"/>
        <c:crosses val="autoZero"/>
        <c:auto val="1"/>
        <c:lblAlgn val="ctr"/>
        <c:lblOffset val="100"/>
        <c:noMultiLvlLbl val="0"/>
      </c:catAx>
      <c:valAx>
        <c:axId val="87383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632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64A-C919-4818-B4C5-0FDE8AE3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598-E987-4B61-885B-116CB540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EA5-768A-4448-8432-7B30371A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C3B-6BD6-43D4-850C-C325FB10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B50-2B9B-4BF6-A2AF-D2398717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3BC-3A1A-4302-B6E5-CE132B8A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B95-A95E-43C1-9C0C-E8658868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D20-7E6C-4C3C-94A2-2592CCFA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875D-94D7-4B89-9A69-848C4C69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F5A7-3262-4525-B52B-72367AC1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DA5-D2BA-4E2C-8A33-D4E708D0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6F2-38FA-499B-926C-E50BB53A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C7641-742D-442A-ADF1-A444EDBDD6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