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68711"/>
        <c:axId val="96683526"/>
      </c:barChart>
      <c:catAx>
        <c:axId val="82068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83526"/>
        <c:crosses val="autoZero"/>
        <c:auto val="1"/>
        <c:lblAlgn val="ctr"/>
        <c:lblOffset val="100"/>
        <c:noMultiLvlLbl val="0"/>
      </c:catAx>
      <c:valAx>
        <c:axId val="96683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68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338-2871-405D-923F-9D119E09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395-BF7D-4C39-9A9D-42E2E6AF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12DD-0F44-467D-BE9D-E2E87887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592-7E90-4483-BCC5-A64569A1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81E-6212-4D17-9E68-DEB6C503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78E-4246-4389-AA54-A76A8B7C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9A0-5ECF-447D-8F81-8FF30351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01E-1F66-401B-8FF0-5BD670C5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98D-9328-48DD-B005-60867600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1F16-CD28-487F-A1A7-16ADCEDA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794-9D69-463B-B279-778DB932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6BF1-1F64-4E0F-BFD7-1E7CFBF3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F7D1C-D60F-4B16-B339-50CEDE1100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