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43130"/>
        <c:axId val="22146690"/>
      </c:barChart>
      <c:catAx>
        <c:axId val="43643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6690"/>
        <c:crosses val="autoZero"/>
        <c:auto val="1"/>
        <c:lblAlgn val="ctr"/>
        <c:lblOffset val="100"/>
        <c:noMultiLvlLbl val="0"/>
      </c:catAx>
      <c:valAx>
        <c:axId val="22146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43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6F5-1932-4934-9A9A-8BDE255C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C46-EE85-4C27-9BB7-E4611B6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D32-674A-4CBB-BD01-8BB2CA7E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EBB-24D0-4247-BE4D-C3464DD6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ADE-DD35-48D2-A4CA-D23D7FA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0B9-EF3F-465D-B5BA-DE53D9D0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00B-4FEE-48C8-B200-AF439A5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A53-378A-49DB-A1EE-A971B34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4C7-8C6C-4753-88FF-8021F47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A30-B995-4BEC-9F0D-90B603A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D9F-B58C-4F30-A8AB-2468EFB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C86-A5A9-48B9-AA8C-B73364F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2D76E-87EE-4F22-BBE6-780CFDEC56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