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74986"/>
        <c:axId val="95449708"/>
      </c:barChart>
      <c:catAx>
        <c:axId val="79074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49708"/>
        <c:crosses val="autoZero"/>
        <c:auto val="1"/>
        <c:lblAlgn val="ctr"/>
        <c:lblOffset val="100"/>
        <c:noMultiLvlLbl val="0"/>
      </c:catAx>
      <c:valAx>
        <c:axId val="95449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74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42B2-59E2-443D-BAAD-58452029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C224-9DC3-44DA-A12B-DA95BE29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E44-99ED-4287-B5B6-04B3CFC1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F8C-B298-4565-8387-F3ABC3D4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E42-E801-440C-B268-E7461EF6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D78-6FBC-4473-B81E-0D5DE8BB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108-DF45-4DF7-BC7A-4D5426B9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749-A60C-4104-BE32-F233C7FF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02D-CB77-4F5F-92F9-B8368887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476-D96A-40FF-81B3-C9389F86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29B-A6EC-43BF-8EB9-9F5B2166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517-F74D-4BAD-AB53-0F7C59F6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FF218-6CBE-44C9-95A2-CE98E3F523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