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63359"/>
        <c:axId val="65734176"/>
      </c:barChart>
      <c:catAx>
        <c:axId val="14963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34176"/>
        <c:crosses val="autoZero"/>
        <c:auto val="1"/>
        <c:lblAlgn val="ctr"/>
        <c:lblOffset val="100"/>
        <c:noMultiLvlLbl val="0"/>
      </c:catAx>
      <c:valAx>
        <c:axId val="65734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63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421-E78E-4F58-9FDA-561F0E0B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956-0F2B-4EEF-AC9F-C4138493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98D-8F4E-47CC-94DE-7511076E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97E-A45D-4096-95DB-3695C5CF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875-FA78-4923-9203-C01F89CF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68E-E920-4866-B2C5-7A32EC18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CD9-641F-4AE1-B4AD-EAA75078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B49-B80A-455A-B5F0-2C43BFA1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0D9-CBF6-499E-BD52-B3E0E2D6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7C1-3697-4924-BF6A-0A47C52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E6F-EB4E-45CE-B59D-00F9F800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FD3-D4B5-493A-AF4A-EC7410C8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83F9F-5710-48D9-B1E9-0CB57D2C92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