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312199"/>
        <c:axId val="73874493"/>
      </c:barChart>
      <c:catAx>
        <c:axId val="213121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74493"/>
        <c:crosses val="autoZero"/>
        <c:auto val="1"/>
        <c:lblAlgn val="ctr"/>
        <c:lblOffset val="100"/>
        <c:noMultiLvlLbl val="0"/>
      </c:catAx>
      <c:valAx>
        <c:axId val="738744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121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0D85-0AA8-418C-9647-03AE70215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7ED5-97CB-48FA-800D-201F1FB7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A1C4-7929-4200-BF07-399D1481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3EC2-3D5C-43D4-A3FF-5B98C2F27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BF74-5F81-4904-A638-D4045CA3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0807-E681-4C1F-8F2E-511B158A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3356-C242-4A8A-976C-20F18D4D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8730-E4DA-4BE2-BA3F-E88BAA34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9C4D-15FC-412D-A5EF-0DE015E8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CA3E-CB58-4EE3-97CD-7DEA2194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AECF-74A8-4FE5-9C06-72FD1C40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2D9C-D12C-47E8-A5BE-310D9822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1840C-DF1A-47CD-9C43-EF6EDE9EFD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