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84157"/>
        <c:axId val="56269937"/>
      </c:barChart>
      <c:catAx>
        <c:axId val="28384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9937"/>
        <c:crosses val="autoZero"/>
        <c:auto val="1"/>
        <c:lblAlgn val="ctr"/>
        <c:lblOffset val="100"/>
        <c:noMultiLvlLbl val="0"/>
      </c:catAx>
      <c:valAx>
        <c:axId val="56269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84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647-93EE-4F69-8D9E-2CC98F2E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36A-465E-4AAF-B50F-1C63210D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AA9-F43F-4ACF-A7BB-7D52A944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EBE-E65F-44A2-BE11-E64251F1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A51-8C94-47FA-8A7A-2C50C4AD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776-A0CC-4B40-A8E9-835E824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BC5-AD19-4297-AB98-B687BB3E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940-C162-4666-A4A3-6AB52A10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660-7155-4642-9251-29DCB00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69F-268A-40D3-BC4A-8BEE66DE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F08-0A27-40C2-9EBD-6C37030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8D4-6AD3-4081-88ED-2994152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80D35-9AB8-47F7-95C0-C0E351ED6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