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476980"/>
        <c:axId val="97073507"/>
      </c:barChart>
      <c:catAx>
        <c:axId val="144769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073507"/>
        <c:crosses val="autoZero"/>
        <c:auto val="1"/>
        <c:lblAlgn val="ctr"/>
        <c:lblOffset val="100"/>
        <c:noMultiLvlLbl val="0"/>
      </c:catAx>
      <c:valAx>
        <c:axId val="970735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4769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6001-8847-4E2B-801F-F59F8ADDB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C80B-A308-4B78-B616-67BE5FA3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0176-F4FC-49CE-AA43-D2A1999F1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E197-40FE-4E19-B489-0DD7A533E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A142-BF51-42E3-ADC1-12F3350F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72BF-4D4E-42F0-B074-69D54CA4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BC9B-0D04-4962-B465-9651FAA0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02B5-BFE7-4A16-92DD-9CB53C7B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FFBB-4408-45FC-915D-9C64CB38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D686-E85B-4CDA-822B-80C9BECE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6FC1-D706-4444-8A02-D681E942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112F-44D9-47DF-87E7-84B4528B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E77CB-35DB-4523-9E39-CA2EEB85A7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