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37669"/>
        <c:axId val="7550615"/>
      </c:barChart>
      <c:catAx>
        <c:axId val="51437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0615"/>
        <c:crosses val="autoZero"/>
        <c:auto val="1"/>
        <c:lblAlgn val="ctr"/>
        <c:lblOffset val="100"/>
        <c:noMultiLvlLbl val="0"/>
      </c:catAx>
      <c:valAx>
        <c:axId val="7550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37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DB4-9439-461B-9C19-4A7C4183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D48-85A0-4CFB-A1CD-8D7D31A9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6E6-73CC-4ECB-9819-E18776B3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87F-F73C-410B-88FA-18240335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77C-6FB0-4996-AB8C-92B2DA8C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405-E0B1-4587-9EC6-CDADE873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763-801D-4BB2-B146-A79266E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255-4B8F-4B95-A354-E3F48361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3C0-879E-4FE3-A218-AAE1B435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C25E-08BE-42EA-9D63-EC1DFD1B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377-7C9D-40AF-B7BC-45945C9A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8EF-5226-46C1-9DC8-F28953E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B5785-49A3-46C0-9B7F-BF4D1D162C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