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165005"/>
        <c:axId val="32815688"/>
      </c:barChart>
      <c:catAx>
        <c:axId val="921650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815688"/>
        <c:crosses val="autoZero"/>
        <c:auto val="1"/>
        <c:lblAlgn val="ctr"/>
        <c:lblOffset val="100"/>
        <c:noMultiLvlLbl val="0"/>
      </c:catAx>
      <c:valAx>
        <c:axId val="328156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1650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C137-AADE-49D7-B64F-63382E936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6E89-4CA9-4D84-9A64-7D02E3C3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4249-6885-4531-B6F8-48F6019AD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647D-F09A-4BF0-B5D0-071A34428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A467-CD00-4EC9-BC01-C10C9638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F275-59DF-462B-AF77-8303F63C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DA1F-EEA3-43ED-95DA-CFFB8ED5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BF88-D613-4A12-93AC-79CA54B9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EFB4-8725-4AB9-964F-DEB96772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66C0-0878-45BB-9F37-6F700FFE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6E25-A55D-4A0A-B808-387B1F7C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FC73-0450-45ED-B1C4-15DBCE44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CA541-B459-4050-8631-CA3E45254F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