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7881463"/>
        <c:axId val="4044570"/>
      </c:barChart>
      <c:catAx>
        <c:axId val="3788146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044570"/>
        <c:crosses val="autoZero"/>
        <c:auto val="1"/>
        <c:lblAlgn val="ctr"/>
        <c:lblOffset val="100"/>
        <c:noMultiLvlLbl val="0"/>
      </c:catAx>
      <c:valAx>
        <c:axId val="404457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88146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23AA5-A96B-41E4-B738-6BC82447E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2C82B-CF73-4E09-A1F9-DF6F81FBC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FD5D8-2B32-4428-9331-81FD41375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A9743-365D-4BB7-8A12-FECB7BE16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D2C03-E0E9-42EF-A197-FF48589BF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0244E-2F83-45C6-93F2-5707454E4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12C59-03B4-4554-9230-2C1670F53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7553F-E364-4A38-A563-6F7D89025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A10DC-6E42-433F-B77A-26159BCC6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1AFF5-F839-456F-934C-38B8AF6F8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0F43F-DA77-4F09-88D4-38DE94BCF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CEF6D-85F7-47B4-98AA-40B1A1F11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24A1C1-D698-4699-996B-D2E079E346D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