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22945"/>
        <c:axId val="71468878"/>
      </c:barChart>
      <c:catAx>
        <c:axId val="95122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68878"/>
        <c:crosses val="autoZero"/>
        <c:auto val="1"/>
        <c:lblAlgn val="ctr"/>
        <c:lblOffset val="100"/>
        <c:noMultiLvlLbl val="0"/>
      </c:catAx>
      <c:valAx>
        <c:axId val="71468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22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240-EA25-49EF-B738-5F7319E9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7BC-3361-41F6-9561-E32CB6B2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EA6-4AC5-411B-855F-83166851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E4D-AAF7-4A47-97CC-BD07CD7D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A8F-C5A3-4B45-932B-CFA45733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11F-DD77-4883-8977-11DF72E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DDA-3921-46C1-A30A-2112AA13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6F8-4069-44B0-B83E-EB6CCFED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483-DC5D-480C-9187-4C65C399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374-FC00-4698-AEF8-87B0FD9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4C4-E748-4EBC-8F70-FA60B0E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659-0264-4F6E-9EE8-E3BEAE1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71C3-9FD7-4A47-8CE4-0717888D1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