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403"/>
        <c:axId val="79538742"/>
      </c:barChart>
      <c:catAx>
        <c:axId val="820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8742"/>
        <c:crosses val="autoZero"/>
        <c:auto val="1"/>
        <c:lblAlgn val="ctr"/>
        <c:lblOffset val="100"/>
        <c:noMultiLvlLbl val="0"/>
      </c:catAx>
      <c:valAx>
        <c:axId val="79538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538-5F3C-46AF-8524-5E8C658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C5C-653A-46B3-87ED-13A862A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B56-6557-42B5-A510-4636F839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910-9790-4565-8274-870F462E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B8A-B8E1-460A-8E23-09EDCA5B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6E6-C195-42DA-83F2-167297C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973-9E0B-4E85-B7C2-F44563C7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08A-67C1-4BEA-8B0C-E802ACE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DB7-3CB3-4BEE-AE89-B43BF3D5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BFE-73FE-4CC0-B69B-1EDA87E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9C5-8839-4FA5-AC86-E37C5E1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F3A-3171-489B-A69D-01E0803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C2FD1-0981-4DA1-86FC-68554D482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