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7455"/>
        <c:axId val="61142973"/>
      </c:barChart>
      <c:catAx>
        <c:axId val="9774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142973"/>
        <c:crosses val="autoZero"/>
        <c:auto val="1"/>
        <c:lblAlgn val="ctr"/>
        <c:lblOffset val="100"/>
        <c:noMultiLvlLbl val="0"/>
      </c:catAx>
      <c:valAx>
        <c:axId val="611429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74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456F-E8AE-4B7A-9260-8FFA74528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6B10-14EC-4E91-92A9-CD1CE20A3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0A6F-B316-45AF-8FD7-C646E8E25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E90D-2EA6-4703-8E36-AB2FC277B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5879-5398-4F1E-A9D3-26038FA47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F7CF-186F-4BEF-8A5D-726EEF745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2CCA-8654-47FE-B40D-592FEF838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78A9-445F-48F8-A2F4-128607662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D8C7-9EDA-485C-B37E-E02F7E6CA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8211-DBA7-4975-A562-B0E2E70E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07EB-170D-483E-AFDF-EDE08DEB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5124-9D3F-42A5-9D77-FFE771C4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814EA0-8E6D-4346-A6AF-D8363B98478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