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35707"/>
        <c:axId val="74586349"/>
      </c:barChart>
      <c:catAx>
        <c:axId val="46935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86349"/>
        <c:crosses val="autoZero"/>
        <c:auto val="1"/>
        <c:lblAlgn val="ctr"/>
        <c:lblOffset val="100"/>
        <c:noMultiLvlLbl val="0"/>
      </c:catAx>
      <c:valAx>
        <c:axId val="74586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35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51D-D847-4CDF-9DAE-175ECEB8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023-A022-4652-846C-9C1A5832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E80-B4F8-4773-B0EA-EB17099B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D91-995C-4B81-A851-7ACEAB3E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B6B-7486-495E-96A7-8249DFD4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BA2-031D-4761-AB5C-41963C4B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980-5DA5-4229-9A5A-FE672976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386-BB51-409A-956B-7C35A5E9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20E-2400-42A3-8954-7150A39C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5E0-BEA6-4753-AED5-5BD36513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FEE-59D9-4904-A8E5-8D35F6C8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CBF-9C9F-4F2D-A4D7-77064742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47974-6FF2-4401-94C6-799DB59587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