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685846"/>
        <c:axId val="51811115"/>
      </c:barChart>
      <c:catAx>
        <c:axId val="716858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11115"/>
        <c:crosses val="autoZero"/>
        <c:auto val="1"/>
        <c:lblAlgn val="ctr"/>
        <c:lblOffset val="100"/>
        <c:noMultiLvlLbl val="0"/>
      </c:catAx>
      <c:valAx>
        <c:axId val="518111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858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159D-992D-448A-B5FB-D588C850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2561-7EA6-42A6-83FA-B326D4DF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36D0-E18D-417B-BB0F-ECA0574F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D197-3AB6-47B4-A8E0-0066ED5F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28D2-C4A7-4DB6-96C5-4367CADD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094E-1AFF-4D01-9397-33F52830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8D12-7DAF-4F4B-B2F9-70628B5D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477-1893-4250-9C01-309DE38E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089F-91FA-4F6C-B7C2-E4040233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7FDE-CAA3-4D36-9835-0D21CC70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081A-F252-4977-B549-14299EEB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553D-54B8-4DC8-BAF9-348476A4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F8CBC-D1EF-4D78-81AC-D13A7B4C29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