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71949"/>
        <c:axId val="13928337"/>
      </c:barChart>
      <c:catAx>
        <c:axId val="68171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8337"/>
        <c:crosses val="autoZero"/>
        <c:auto val="1"/>
        <c:lblAlgn val="ctr"/>
        <c:lblOffset val="100"/>
        <c:noMultiLvlLbl val="0"/>
      </c:catAx>
      <c:valAx>
        <c:axId val="13928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71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D07-8339-4BB1-8B3C-6734E6F6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79F-E4EB-4773-9204-6859CD1F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344-94B0-451C-9D21-E31CF86D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6F8-BB4D-46C6-A119-4D2088AA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025-4CE2-499C-8730-3A65CEB6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2D4-14EF-40F5-8586-F1996E3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7CA-4E0E-4ACC-A9A1-901F33DB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5C5-5061-4F48-BFC2-DBAC3411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89D-94BE-403F-B585-3204A8EE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D82-EE49-4B4E-871A-DF541D2A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674-329B-4F16-8942-F3FDD8A6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41F-2214-434C-8BA6-A0DD9131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7882-5D61-4CDB-B117-DF80646140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