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51865"/>
        <c:axId val="87324732"/>
      </c:barChart>
      <c:catAx>
        <c:axId val="48151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24732"/>
        <c:crosses val="autoZero"/>
        <c:auto val="1"/>
        <c:lblAlgn val="ctr"/>
        <c:lblOffset val="100"/>
        <c:noMultiLvlLbl val="0"/>
      </c:catAx>
      <c:valAx>
        <c:axId val="87324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51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F91-ED75-4F4F-9DF9-EA923B4A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C1D-F092-42F5-ACE7-61530936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04E-E120-4077-8209-36947541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AD7-29F4-4A28-A8C7-2410DBB1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939-FAE3-47FE-9915-F3B21F40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6EF-BFCA-4320-996E-DB429ABD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0D8-4EC4-4AB9-81EA-378B0E85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A4C2-754A-4108-8C6F-4E17E956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FE66-B3E2-4016-B4E9-8FADA550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F09-BCC9-40CE-A8FF-F789E539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842-03F1-4610-8063-0778D5C9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307D-692A-47E7-BFBB-BAE3C419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65E1F-749A-438D-9BBE-44EEA264B2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