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41777"/>
        <c:axId val="17654840"/>
      </c:barChart>
      <c:catAx>
        <c:axId val="44241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54840"/>
        <c:crosses val="autoZero"/>
        <c:auto val="1"/>
        <c:lblAlgn val="ctr"/>
        <c:lblOffset val="100"/>
        <c:noMultiLvlLbl val="0"/>
      </c:catAx>
      <c:valAx>
        <c:axId val="17654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41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4CD-195F-45D6-943B-D1695987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CDC-FAD7-4FC9-8B2C-73F5C5B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E60-CF1B-4883-A19E-541BB7EC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A08-E7E7-41F3-B7D6-DA34C29F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F1B-A2BC-40F4-8AE1-AB90304E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729-B726-4E72-ABE1-039262CE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672-584D-4C0A-91C3-14E50118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0DF-3361-4C86-8DE1-5E770F14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AFC-4120-47B8-AD23-C2D261B5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1BB-72FD-4FEB-A1F3-107C06D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76B-F276-43D5-B91B-14A1D20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714-1704-4711-B96A-C5E729D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34797-9945-468B-B746-840D1C5A56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