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7220"/>
        <c:axId val="65419162"/>
      </c:barChart>
      <c:catAx>
        <c:axId val="1967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9162"/>
        <c:crosses val="autoZero"/>
        <c:auto val="1"/>
        <c:lblAlgn val="ctr"/>
        <c:lblOffset val="100"/>
        <c:noMultiLvlLbl val="0"/>
      </c:catAx>
      <c:valAx>
        <c:axId val="65419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7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16B-FAA4-497F-BC30-3B49CBDD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42D-5869-45ED-8EEC-EB44A55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C7D-C6A1-45D6-9D25-DA4F78C4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C57-0785-403F-8ACE-CBE329D0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D57-E79C-4C23-8FEF-2910ADA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715-FBFA-44C2-9FE0-5DCBEB2F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F64-95A3-430B-B169-A88FFBEF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B24-BFDC-4705-8B8E-2A74082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2B8-4FC0-4B46-A34E-4D19911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30E-32AC-47BF-AF4D-77E0500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C9C-F5FF-463F-A9FC-2F8F5275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AE1-1A97-4D1F-8E36-7D60649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8041E-90EF-4BE5-BBDD-986AB71FE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